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39F3C5F7-8610-4540-BDB1-3A27F6C6DC0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ECEA2E83-DBD1-4B0F-857A-F6E6E140A72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5: Managing with Facts and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28520" y="1709280"/>
            <a:ext cx="737388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are the hours that the team spends on planned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hours do not include many unplanned but necessary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sk coordina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vice and assistan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ndling mail, supplies, expense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can estimate task hours, but planning the other activities is guess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measured, tracked, and managed, task hours can often be improv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026"/>
          <p:cNvSpPr/>
          <p:nvPr/>
        </p:nvSpPr>
        <p:spPr>
          <a:xfrm>
            <a:off x="1035000" y="2763720"/>
            <a:ext cx="7628040" cy="363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5" name="Picture 1027" descr=""/>
          <p:cNvPicPr/>
          <p:nvPr/>
        </p:nvPicPr>
        <p:blipFill>
          <a:blip r:embed="rId1"/>
          <a:stretch/>
        </p:blipFill>
        <p:spPr>
          <a:xfrm>
            <a:off x="1244520" y="2725560"/>
            <a:ext cx="6596280" cy="39229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rov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720" y="1722240"/>
            <a:ext cx="77436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verage task hours per developer per week were improved from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9.6 hours to 15.1 hours through quiet time, process documentation, more efficient meetings, et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Rectangle 1030"/>
          <p:cNvSpPr/>
          <p:nvPr/>
        </p:nvSpPr>
        <p:spPr>
          <a:xfrm>
            <a:off x="1047600" y="5918040"/>
            <a:ext cx="7628040" cy="59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AutoShape 1031"/>
          <p:cNvSpPr/>
          <p:nvPr/>
        </p:nvSpPr>
        <p:spPr>
          <a:xfrm>
            <a:off x="7851600" y="3587760"/>
            <a:ext cx="257400" cy="855720"/>
          </a:xfrm>
          <a:prstGeom prst="upArrow">
            <a:avLst>
              <a:gd name="adj1" fmla="val 50000"/>
              <a:gd name="adj2" fmla="val 8311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1032"/>
          <p:cNvSpPr/>
          <p:nvPr/>
        </p:nvSpPr>
        <p:spPr>
          <a:xfrm>
            <a:off x="7595280" y="3073320"/>
            <a:ext cx="7956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+57%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1" name="Text Box 1033"/>
          <p:cNvSpPr/>
          <p:nvPr/>
        </p:nvSpPr>
        <p:spPr>
          <a:xfrm>
            <a:off x="1006560" y="6151680"/>
            <a:ext cx="1866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Source: Allied Signal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Task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17360" y="1707840"/>
            <a:ext cx="77310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s can only be improv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need managemen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ing weekly task hours directly improves team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improvement costs little or noth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7840"/>
            <a:ext cx="763740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ask’s earned value (EV) is the percentage of the total estimated project hours that the task is planned to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values each task, regardless of typ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earned when the task i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no partial cred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V credit is the same, regardless of the time the task actually tak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rovides a precise wa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project completion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7280" y="1671480"/>
            <a:ext cx="76914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10-person team estimates that the first development cycle of a job will take 1,0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top-down plan breaks the work into 5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hour estimates for these first-cycle phase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development: 16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(HLD):  1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design (DLD):  22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:  25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ing:  215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05040" y="175716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ed value (PV) is the value in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value is earned (EV) only on task comple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946080" y="1782720"/>
            <a:ext cx="7597800" cy="22942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Cycle 1 Task Pla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Cycle 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Task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ask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P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Requirement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6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H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DLD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2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3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Implementation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8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25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576360"/>
                <a:tab algn="l" pos="801720"/>
                <a:tab algn="l" pos="2168640"/>
                <a:tab algn="r" pos="2631960"/>
                <a:tab algn="l" pos="3033720"/>
                <a:tab algn="r" pos="3772080"/>
                <a:tab algn="l" pos="4462560"/>
                <a:tab algn="dec" pos="4913280"/>
                <a:tab algn="l" pos="571500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esting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1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,00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2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039680" y="2025720"/>
            <a:ext cx="7837560" cy="367164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he Cycle 1 Schedule Pla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Week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Plan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 Cumulative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PV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Cumul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No.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     Plan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Hours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PV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  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31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4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4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2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53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0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25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9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  78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12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21.5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1028880"/>
                <a:tab algn="l" pos="1220760"/>
                <a:tab algn="dec" pos="1542960"/>
                <a:tab algn="r" pos="3195720"/>
                <a:tab algn="l" pos="4243320"/>
                <a:tab algn="l" pos="4500720"/>
                <a:tab algn="dec" pos="488628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1,28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0.0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   10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2360" y="85212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four weeks, the work has taken longer than ex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inished the requirements in 218 hours instead of the planned 165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level design took 186 hours instead of 15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tailed design is partially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confident they will finish it in a day or tw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estimate for project completio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3312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asks are completed, their EV is entered for the week ear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is the project likely to finis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022400" y="2638440"/>
            <a:ext cx="7099200" cy="2950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chedule Planning Templat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Week     Plan        Actual         Cumulative      Cumulative       Cumulativ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.    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Hours        Actual Hours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PV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26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2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48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74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6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56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30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31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4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    16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93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53.5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31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5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6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78.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7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193680"/>
                <a:tab algn="l" pos="965160"/>
                <a:tab algn="l" pos="1351080"/>
                <a:tab algn="l" pos="3151080"/>
                <a:tab algn="dec" pos="3535200"/>
                <a:tab algn="l" pos="4371840"/>
                <a:tab algn="dec" pos="4800600"/>
                <a:tab algn="l" pos="6043680"/>
                <a:tab algn="dec" pos="629136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8         160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0.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9880" y="1671480"/>
            <a:ext cx="7410600" cy="4507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gets no credit for partially completed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earned 31.5 EV in 4 weeks, or 7.875 EV pe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100-31.5 = 68.5 EV to g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7.8754 per week, that is 8.7 more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to the 4 weeks spent so far, that is 12.7 wee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urrent rate of progress, the team will be 5.7 weeks 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496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942840" y="1657080"/>
            <a:ext cx="795672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detailed plans, status can be more precisely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more precise status information, completion projections are more 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accurate completion projections will help you manage the busi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2360" y="839520"/>
            <a:ext cx="7419960" cy="5634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siness Implic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42840" y="1657080"/>
            <a:ext cx="7756560" cy="45068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training, developers know how to plan, schedule, and track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use these PSP-learned methods to make detailed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no more than 10 task hours 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time is recorded dai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is measured week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tell project status to within 1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regularly report their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Facts and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schedules slip a day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not precisely measure project status, you will not know where projects sta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such knowledge, you cannot address schedule problems in time to fix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osely monitor team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ress problems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tly mee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ather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precise project management, teams need precise proj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ata must be gathered by the develop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, they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itably l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fied TSP coach can help teams and team leaders gather and use their TSP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ta Sensitiv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data are sens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 varies among individu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have off d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stakes are always embarrass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velopers feel that their personal data could be used against them, they will not gather that data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use aggregate team data to manage TSP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management respects the developers’ data, data privacy will not be an iss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old Regular Project Review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 project reviews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project statu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impend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ose po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superi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reviews also help team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ing continued management inter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inforcing your desire for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the team’s motiv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ing areas where the team needs hel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ward Quality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organizations reward the firefighters, they have lots of f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management recognizes and rewards quality work, the developers and teams who quietly do such work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on become invisi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assed over in promo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discouraged and lea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 for and reward those who do the highest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17720" y="17222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get the best performance, team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ir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us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sistently do this, they must be rationally manag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your teams to perform at their b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that the teams gather and use their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only team-level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review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challenging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facts an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ing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040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17720" y="5138640"/>
            <a:ext cx="5494320" cy="1293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2603520" y="3849840"/>
            <a:ext cx="4808520" cy="1293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032280" y="2563920"/>
            <a:ext cx="4379760" cy="12938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403880" y="5288040"/>
            <a:ext cx="302256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489560" y="398628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etaile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5241600" y="263700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AutoShape 9"/>
          <p:cNvSpPr/>
          <p:nvPr/>
        </p:nvSpPr>
        <p:spPr>
          <a:xfrm flipH="1" rot="5400000">
            <a:off x="6037920" y="3328920"/>
            <a:ext cx="4098960" cy="857160"/>
          </a:xfrm>
          <a:prstGeom prst="rightArrow">
            <a:avLst>
              <a:gd name="adj1" fmla="val 54389"/>
              <a:gd name="adj2" fmla="val 40293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i="1" lang="en-US" sz="1800" spc="-1" strike="noStrike">
                <a:solidFill>
                  <a:srgbClr val="39536b"/>
                </a:solidFill>
                <a:latin typeface="Arial Black"/>
              </a:rPr>
              <a:t>Team Performa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 rot="16200000">
            <a:off x="1181520" y="55886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 rot="16200000">
            <a:off x="1959840" y="345204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3546360" y="1708200"/>
            <a:ext cx="3865680" cy="879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Seni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5641200" y="1708200"/>
            <a:ext cx="1721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suppo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eam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Program visibil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931680" y="1692360"/>
            <a:ext cx="2059200" cy="12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apitalizing 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eam potential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s management’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1440" y="692280"/>
            <a:ext cx="8226360" cy="855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Direc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28800" y="1655640"/>
            <a:ext cx="7640640" cy="459576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re very respons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ill try to do whatever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guidance, they will do what they think you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may not be what you really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stress schedule above everything else, teams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aggressive 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change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more time than following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ing the job the right way is, in the end, always the fastest and cheapest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ational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is the most effective way to manage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 management has four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ting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ting the fa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facts and data to make deci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team performance to anticipate and address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ggressive but Realistic Go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28520" y="1722600"/>
            <a:ext cx="7305480" cy="46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knows what an aggressive goal is, but what is a realistic goal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alistic goal is one that the team members see how to m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made a plan to meet the go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willing to commit to thi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the goal is realistic, probe the team’s plan to ensure that i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detailed and comple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based on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s the ke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gotiating Realistic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eams say that they cannot meet a date, that date is 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insist that the team meet that date, there is little if any chance that the team will do s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rrational management has several consequ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not make believabl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do not believe the plans that they ha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not motivated to meet management’s 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ir jobs take longer than they would with a realistic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the Fa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720" y="1707840"/>
            <a:ext cx="741024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vides many kinds of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ull assessment of project status must include schedule and quality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ask hour and earned value (EV) measures, teams can precisely determine schedul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also estimate when they will likely finish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1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51Z</dcterms:modified>
  <cp:revision>18</cp:revision>
  <dc:subject>24 July 2001 / 3:30pm</dc:subject>
  <dc:title>PowerPoint Presentation</dc:title>
</cp:coreProperties>
</file>